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41E32-573F-40F5-91D7-15D29D33B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321E-F7FB-4640-A696-1CDC9030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F9970-EBA6-4D47-8E31-E7D63BB7D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D563-FD07-4E51-805F-56B13EDF6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1740F-0925-41BD-8C0D-16BB67ABC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82CF9-3277-4F90-81E1-195C3164F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DE67-BFE1-4F3E-92AB-CCA66080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5AEC-E44D-4255-875D-47C86A812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05F3-A367-42E4-BE8B-211312E4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71B2-EFC0-4516-B4FA-04E0B075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8A2B-2A5A-4F42-AFE6-409CC004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5DF4-2996-4E97-B789-85D34BAD1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3CE9-9423-4DCA-9550-BF1F9FA4733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24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Change Over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nidorm</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1950's Benidorm was a small, attractive fishing village bordered by fine sandy bea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ew people visited it despite the attractive scenery andwarm sum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over the next 20 years travellers discovered the lovely little village and began to flock t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nidorm</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70 Benidorm had been transformed from a small fishing village to a sprawling mass of hotels based around the needs of the touris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wn had changed functions complet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90 the resort had begun to stagnate, and the government was forced to step in with a scheme aimed at rejuvenating the resort and its fac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 Mining Tow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villages of South Wales began their existence as small farming communiti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uring the Industrial Revolution, large deposits of coal were found in the valleys and the mining industry took off.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ettlements grew due to this new industry.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by the 1930's the amount of coal being extracted was beginning to decline and by the 1990's all but one of the mines had been closed dow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 Mining Tow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wns and villages that had relied on the coalmines began to decli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however have once again had their functions chang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villages have become centres for commuters to locate to, whilst the larger settlements such as Pontypridd and Swansea have benefited from being at the Western end of the M4 Corrid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uth Wales Mining Tow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growth corridor extends right the way to London, and so large companies such as Sony, Bosch and the Royal Mint have been encouraged to relocate to South Wal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wns are becoming important industrial and business a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0:41:45Z</dcterms:created>
  <dc:creator>Dell_02</dc:creator>
  <dc:description/>
  <dc:language>en-US</dc:language>
  <cp:lastModifiedBy>Dell_02</cp:lastModifiedBy>
  <dcterms:modified xsi:type="dcterms:W3CDTF">2011-01-26T05:22:07Z</dcterms:modified>
  <cp:revision>1</cp:revision>
  <dc:subject/>
  <dc:title>Change Over Time</dc:title>
</cp:coreProperties>
</file>